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3CF-C8F7-46A8-91EE-088E06A0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193-AB5D-4114-A3EC-F308774C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A5E-B96A-42AF-8083-F4640494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D8A-98FD-448B-8815-40661F48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AF49-2E78-4236-948F-A2459922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5C80-24DA-46E3-A3A3-6D4C4D1D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5DDB-14BE-430D-8593-24DA1A3F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40FC-C0C5-45F5-B1BD-E0476EC1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54D7-40F3-4D84-8767-0B393A82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C359-6680-4077-976B-4FF9A894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69D9-499B-4341-AE2E-686BD30E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7D8-2919-4FC5-A8E9-6F1F6D3B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DF39-125C-4566-BF89-8CB5474A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4D53-2295-445C-A93E-AA4F32ED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94B2-5AF7-452D-9B0E-E46AC6E3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133A-C243-4CDC-8FD3-4A32D543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64B3-774A-462B-8AD2-5B845414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5F8-D832-4823-982E-476B7525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BD4-976C-453B-AD18-28775E72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1FE-8EAB-46BE-8185-155F12B9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AAC-D02B-4F38-B019-4534D69F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8A8-DC40-4B97-95E6-F98FC571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C28-ECE4-419E-B871-C3B24102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FAA-5CFC-4D24-BBEA-29C4C4C2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2CD3-84F6-4592-A7B3-2ED0D8B8A52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9AD0-208F-437F-B932-1D2F3460A2E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ما أجمل أن نَجتمع معاً</a:t>
            </a:r>
            <a:endParaRPr b="0" lang="en-US" sz="1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جْمَلَ أَنْ نَجْتَمِعَ مَعاً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الْحُبِّ يَقولُ الرَّبُّ لَ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اجْتَمَعَ باسْمِيَ اثنَانِ مَعاً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لاّ وَهُنَاكَ أَكُونُ أَنَ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5680" y="0"/>
            <a:ext cx="7583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رَبُّ تَعَالَ الآنَ هُ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َدْعُوكَ تَعَالَ وَكُنْ مَعَ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ِنْ رُوحِكَ إِمْلأْنَا فَرَحاً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سَلاماً لاَ يُعْطِيهِ غِنَى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41320" y="0"/>
            <a:ext cx="73677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ذَا كُنْتَ لَنَا عَوْناً وَسَنَد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ِي كُلِّ طَرِيقٍ نَسْلُكُهُ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إِلَهاً لَيْسَ سِواهُ نَجِد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ُعْطِيهِ الْقَلْبَ نَمْلِكُهُ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5680" y="0"/>
            <a:ext cx="7583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رَبُّ تَعَالَ الآنَ هُ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َدْعُوكَ تَعَالَ وَكُنْ مَعَ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ِنْ رُوحِكَ إِمْلأْنَا فَرَحاً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سَلاماً لاَ يُعْطِيهِ غِنَى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2-12-29T16:03:14Z</dcterms:modified>
  <cp:revision>17</cp:revision>
  <dc:subject/>
  <dc:title>Slide 1</dc:title>
</cp:coreProperties>
</file>